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03A-B357-4CF6-8DB3-77975E90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1841-2CD1-4632-A518-0DA8F6F3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153F-454E-46CE-84CD-3053C976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4ABE-4BE4-4CBD-B514-E08CCE20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DEB-EBC6-419A-8E79-C9B5919E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2EFE-88A4-4BD4-B660-F4383EB1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2FF-48AF-4C52-ADAB-5E7EDC51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247-0A7A-43F8-BAA9-9CC6621C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F982-8DF2-4082-AFD2-247064BB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26C-6A13-4B52-B8F9-BA8F17E7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9C22-3FAF-44C8-9534-AFDC26B7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DB0-AF30-4E56-86CF-761FB0CA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0638-8DFC-4C47-BAFF-D47392E38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04960" y="14400"/>
            <a:ext cx="7534080" cy="68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380360" y="623736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9280" y="3716280"/>
            <a:ext cx="1371600" cy="2903400"/>
            <a:chOff x="179280" y="3716280"/>
            <a:chExt cx="1371600" cy="290340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179280" y="3716280"/>
              <a:ext cx="1201680" cy="252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179280" y="6235560"/>
              <a:ext cx="1371600" cy="38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04960" y="14400"/>
            <a:ext cx="7534080" cy="6829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380360" y="623736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to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79280" y="3716280"/>
            <a:ext cx="1371600" cy="2903400"/>
            <a:chOff x="179280" y="3716280"/>
            <a:chExt cx="1371600" cy="290340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79280" y="3716280"/>
              <a:ext cx="1201680" cy="252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179280" y="6235560"/>
              <a:ext cx="1371600" cy="38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04960" y="14400"/>
            <a:ext cx="7534080" cy="6829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020000" y="6237360"/>
            <a:ext cx="151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79280" y="3716280"/>
            <a:ext cx="1371600" cy="2903400"/>
            <a:chOff x="179280" y="3716280"/>
            <a:chExt cx="1371600" cy="2903400"/>
          </a:xfrm>
        </p:grpSpPr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179280" y="3716280"/>
              <a:ext cx="1201680" cy="252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179280" y="6235560"/>
              <a:ext cx="1371600" cy="38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04960" y="14400"/>
            <a:ext cx="7534080" cy="6829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948360" y="623736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z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79280" y="3716280"/>
            <a:ext cx="1371600" cy="2903400"/>
            <a:chOff x="179280" y="3716280"/>
            <a:chExt cx="1371600" cy="290340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79280" y="3716280"/>
              <a:ext cx="1201680" cy="252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179280" y="6235560"/>
              <a:ext cx="1371600" cy="38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04960" y="14400"/>
            <a:ext cx="7534080" cy="6829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380360" y="623736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79280" y="3716280"/>
            <a:ext cx="1371600" cy="2903400"/>
            <a:chOff x="179280" y="3716280"/>
            <a:chExt cx="1371600" cy="290340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179280" y="3716280"/>
              <a:ext cx="1201680" cy="252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179280" y="6235560"/>
              <a:ext cx="1371600" cy="38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4960" y="14400"/>
            <a:ext cx="7534080" cy="6829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380360" y="623736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är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79280" y="3716280"/>
            <a:ext cx="1371600" cy="2903400"/>
            <a:chOff x="179280" y="3716280"/>
            <a:chExt cx="1371600" cy="29034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179280" y="3716280"/>
              <a:ext cx="1201680" cy="252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179280" y="6235560"/>
              <a:ext cx="1371600" cy="38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04960" y="14400"/>
            <a:ext cx="7534080" cy="6829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380360" y="623736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79280" y="3716280"/>
            <a:ext cx="1371600" cy="2903400"/>
            <a:chOff x="179280" y="3716280"/>
            <a:chExt cx="1371600" cy="290340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3716280"/>
              <a:ext cx="1201680" cy="252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179280" y="6235560"/>
              <a:ext cx="1371600" cy="38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04960" y="14400"/>
            <a:ext cx="7534080" cy="6829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80360" y="623736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79280" y="3716280"/>
            <a:ext cx="1371600" cy="2903400"/>
            <a:chOff x="179280" y="3716280"/>
            <a:chExt cx="1371600" cy="290340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179280" y="3716280"/>
              <a:ext cx="1201680" cy="252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179280" y="6235560"/>
              <a:ext cx="1371600" cy="38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04960" y="14400"/>
            <a:ext cx="7534080" cy="682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380360" y="623736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79280" y="3716280"/>
            <a:ext cx="1371600" cy="2903400"/>
            <a:chOff x="179280" y="3716280"/>
            <a:chExt cx="1371600" cy="2903400"/>
          </a:xfrm>
        </p:grpSpPr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179280" y="3716280"/>
              <a:ext cx="1201680" cy="252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179280" y="6235560"/>
              <a:ext cx="1371600" cy="38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04960" y="14400"/>
            <a:ext cx="7534080" cy="68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380360" y="623736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79280" y="3716280"/>
            <a:ext cx="1371600" cy="2903400"/>
            <a:chOff x="179280" y="3716280"/>
            <a:chExt cx="1371600" cy="290340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179280" y="3716280"/>
              <a:ext cx="1201680" cy="252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179280" y="6235560"/>
              <a:ext cx="1371600" cy="38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4960" y="14400"/>
            <a:ext cx="7534080" cy="6829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380360" y="623736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79280" y="3716280"/>
            <a:ext cx="1371600" cy="2903400"/>
            <a:chOff x="179280" y="3716280"/>
            <a:chExt cx="1371600" cy="29034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79280" y="3716280"/>
              <a:ext cx="1201680" cy="252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235560"/>
              <a:ext cx="1371600" cy="38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04960" y="14400"/>
            <a:ext cx="7534080" cy="6829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020000" y="6237360"/>
            <a:ext cx="151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79280" y="3716280"/>
            <a:ext cx="1371600" cy="2903400"/>
            <a:chOff x="179280" y="3716280"/>
            <a:chExt cx="1371600" cy="290340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179280" y="3716280"/>
              <a:ext cx="1201680" cy="252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179280" y="6235560"/>
              <a:ext cx="1371600" cy="38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10:15:00Z</dcterms:created>
  <dc:creator>Bolten</dc:creator>
  <dc:description/>
  <dc:language>en-US</dc:language>
  <cp:lastModifiedBy>Bolten</cp:lastModifiedBy>
  <dcterms:modified xsi:type="dcterms:W3CDTF">2002-07-01T11:54:34Z</dcterms:modified>
  <cp:revision>4</cp:revision>
  <dc:subject/>
  <dc:title>Folie 1</dc:title>
</cp:coreProperties>
</file>