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D27B-B73A-41CC-8FC8-4EC46E5A1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23F4-1C45-4AE9-BF70-EB5BC9D8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974A-0CEA-4AC0-8DD8-C402F3461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3284-A63B-409D-AFEE-9E45DF7FF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D9B9-C276-4075-9418-18E141196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2267-6EE4-4D44-B3DB-50A6B517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31BA-2516-492C-A28E-69E00457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670E-DDDC-431E-A5E0-A041A92B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BBF5-6EE9-42FE-9DB7-6C988B64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8D77-1070-4B13-AD92-5F14A511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BBF5-A190-4E66-8F5D-90AC7214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C5FD-35DF-42A8-95AD-7EF8F284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E1A4-F9ED-4ECD-9A8D-4E64B572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BCAF-E1A6-43D0-9DC1-1B1906E5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3728-A96E-4784-806B-D00C2550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E439-30B1-4AB2-B74F-220E6BAA7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82E2-AE8D-4C8C-AEB9-32B79E8B0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097F-7864-4033-8CC3-7A9C268D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5D8B-7727-48DE-AEEE-C8D9BA76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1410-B27F-45FB-9391-87FE8633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4F68-916D-4219-8F39-18A2A02E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DEC7-45FE-4CCD-B262-91D1B92D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2B86-5003-4C50-B4BF-AE3F5ABC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0477-9DBF-4E2A-AF46-6F8EF2C1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ED41-BC43-494D-A672-3103A6A1EB5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2EC1-7A5B-4CD0-9843-B0A6CEFC089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25520" y="228600"/>
            <a:ext cx="29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cc"/>
                </a:solidFill>
                <a:latin typeface="Times New Roman"/>
              </a:rPr>
              <a:t>Konstruktivismu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312408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Konstruk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1600" y="312408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terpret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047760" y="2133720"/>
            <a:ext cx="1523880" cy="9903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2133720"/>
            <a:ext cx="1600200" cy="9903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7840" y="152388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Wahrnehmu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85480" y="463248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bjektivitä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64960" y="5029200"/>
            <a:ext cx="32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Times New Roman"/>
              </a:rPr>
              <a:t>subjektunabhängiges Denken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352680" y="4191120"/>
            <a:ext cx="2286000" cy="175248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4191120"/>
            <a:ext cx="2438280" cy="175248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82760" y="152280"/>
            <a:ext cx="4620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cc"/>
                </a:solidFill>
                <a:latin typeface="Times New Roman"/>
              </a:rPr>
              <a:t>Lernen nach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cc"/>
                </a:solidFill>
                <a:latin typeface="Times New Roman"/>
              </a:rPr>
              <a:t>konstruktivistischen Forderungen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88040" y="1752480"/>
            <a:ext cx="39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1. Konstruiertheit des Wissen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89480" y="2362320"/>
            <a:ext cx="25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. Sozialer Kontex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88760" y="2971800"/>
            <a:ext cx="372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3. Effektive Aktion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kontextbezogenes Wisse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88040" y="3886200"/>
            <a:ext cx="31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 Multiple Perspektiv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88760" y="4495680"/>
            <a:ext cx="27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5. Multiple Kontex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89480" y="5105520"/>
            <a:ext cx="33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. Verschiedene Symbo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745720" y="228600"/>
            <a:ext cx="406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ognitive Apprenticeshi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190512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Kognitiv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84960" y="190512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pprenticeship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25480" y="2438280"/>
            <a:ext cx="3835440" cy="18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"/>
              </a:rPr>
              <a:t>kog|ni|t</a:t>
            </a:r>
            <a:r>
              <a:rPr b="1" lang="de-DE" sz="1400" spc="-1" strike="noStrike" u="sng">
                <a:solidFill>
                  <a:srgbClr val="ffffcc"/>
                </a:solidFill>
                <a:uFillTx/>
                <a:latin typeface="Arial"/>
              </a:rPr>
              <a:t>i</a:t>
            </a:r>
            <a:r>
              <a:rPr b="1" lang="de-DE" sz="1400" spc="-1" strike="noStrike">
                <a:solidFill>
                  <a:srgbClr val="ffffcc"/>
                </a:solidFill>
                <a:latin typeface="Arial"/>
              </a:rPr>
              <a:t>v </a:t>
            </a:r>
            <a:r>
              <a:rPr b="0" lang="de-DE" sz="1400" spc="-1" strike="noStrike">
                <a:solidFill>
                  <a:srgbClr val="ffffcc"/>
                </a:solidFill>
                <a:latin typeface="Arial"/>
              </a:rPr>
              <a:t>[auch: </a:t>
            </a:r>
            <a:r>
              <a:rPr b="0" lang="de-DE" sz="1400" spc="-1" strike="noStrike">
                <a:solidFill>
                  <a:srgbClr val="ffffcc"/>
                </a:solidFill>
                <a:latin typeface="Bookshelf Symbol 4"/>
                <a:ea typeface="Bookshelf Symbol 4"/>
              </a:rPr>
              <a:t></a:t>
            </a:r>
            <a:r>
              <a:rPr b="0" lang="de-DE" sz="1400" spc="-1" strike="noStrike">
                <a:solidFill>
                  <a:srgbClr val="ffffcc"/>
                </a:solidFill>
                <a:latin typeface="Arial"/>
              </a:rPr>
              <a:t>k</a:t>
            </a:r>
            <a:r>
              <a:rPr b="0" lang="de-DE" sz="1400" spc="-1" strike="noStrike">
                <a:solidFill>
                  <a:srgbClr val="ffffcc"/>
                </a:solidFill>
                <a:latin typeface="Bookshelf Symbol 4"/>
                <a:ea typeface="Bookshelf Symbol 4"/>
              </a:rPr>
              <a:t></a:t>
            </a:r>
            <a:r>
              <a:rPr b="0" lang="de-DE" sz="1400" spc="-1" strike="noStrike">
                <a:solidFill>
                  <a:srgbClr val="ffffcc"/>
                </a:solidFill>
                <a:latin typeface="Arial"/>
              </a:rPr>
              <a:t>...] </a:t>
            </a:r>
            <a:r>
              <a:rPr b="0" lang="de-DE" sz="1400" spc="-1" strike="noStrike">
                <a:solidFill>
                  <a:srgbClr val="ffffcc"/>
                </a:solidFill>
                <a:latin typeface="Symbol"/>
                <a:ea typeface="Symbol"/>
              </a:rPr>
              <a:t></a:t>
            </a:r>
            <a:r>
              <a:rPr b="0" i="1" lang="de-DE" sz="1400" spc="-1" strike="noStrike">
                <a:solidFill>
                  <a:srgbClr val="ffffcc"/>
                </a:solidFill>
                <a:latin typeface="Arial"/>
              </a:rPr>
              <a:t>lat.-nlat.</a:t>
            </a:r>
            <a:r>
              <a:rPr b="0" lang="de-DE" sz="1400" spc="-1" strike="noStrike">
                <a:solidFill>
                  <a:srgbClr val="ffffcc"/>
                </a:solidFill>
                <a:latin typeface="Symbol"/>
                <a:ea typeface="Symbol"/>
              </a:rPr>
              <a:t></a:t>
            </a:r>
            <a:r>
              <a:rPr b="0" lang="de-DE" sz="1400" spc="-1" strike="noStrike">
                <a:solidFill>
                  <a:srgbClr val="ffffcc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cc"/>
                </a:solidFill>
                <a:latin typeface="Arial"/>
              </a:rPr>
              <a:t>die Erkenntnis betreffend; erkenntnismäßig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cc"/>
                </a:solidFill>
                <a:latin typeface="Arial"/>
              </a:rPr>
              <a:t>kognitive Entwicklung: Entwicklung all der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cc"/>
                </a:solidFill>
                <a:latin typeface="Arial"/>
              </a:rPr>
              <a:t>Funktionen beim Kind, die zum Wahrnehme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cc"/>
                </a:solidFill>
                <a:latin typeface="Arial"/>
              </a:rPr>
              <a:t>eines Gegenstandes od. zum Wissen über ih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cc"/>
                </a:solidFill>
                <a:latin typeface="Arial"/>
              </a:rPr>
              <a:t>beitragen (Päd.; Psychol.)</a:t>
            </a:r>
            <a:r>
              <a:rPr b="0" lang="de-DE" sz="1400" spc="-1" strike="noStrike">
                <a:solidFill>
                  <a:srgbClr val="ffffcc"/>
                </a:solidFill>
                <a:latin typeface="Times New Roman"/>
              </a:rPr>
              <a:t>(c) Dudenverlag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04000" y="2414520"/>
            <a:ext cx="32652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"/>
              </a:rPr>
              <a:t>ap</a:t>
            </a:r>
            <a:r>
              <a:rPr b="1" lang="de-DE" sz="1400" spc="-1" strike="noStrike">
                <a:solidFill>
                  <a:srgbClr val="ffffcc"/>
                </a:solidFill>
                <a:latin typeface="Bookshelf Symbol 4"/>
                <a:ea typeface="Bookshelf Symbol 4"/>
              </a:rPr>
              <a:t></a:t>
            </a:r>
            <a:r>
              <a:rPr b="1" lang="de-DE" sz="1400" spc="-1" strike="noStrike">
                <a:solidFill>
                  <a:srgbClr val="ffffcc"/>
                </a:solidFill>
                <a:latin typeface="Arial"/>
              </a:rPr>
              <a:t>pren·tice·ship </a:t>
            </a:r>
            <a:r>
              <a:rPr b="0" i="1" lang="de-DE" sz="1400" spc="-1" strike="noStrike">
                <a:solidFill>
                  <a:srgbClr val="ffffcc"/>
                </a:solidFill>
                <a:latin typeface="Arial"/>
              </a:rPr>
              <a:t>s </a:t>
            </a:r>
            <a:r>
              <a:rPr b="0" lang="de-DE" sz="1400" spc="-1" strike="noStrike">
                <a:solidFill>
                  <a:srgbClr val="ffffcc"/>
                </a:solidFill>
                <a:latin typeface="Arial"/>
              </a:rPr>
              <a:t>Lehrzeit </a:t>
            </a:r>
            <a:r>
              <a:rPr b="0" i="1" lang="de-DE" sz="1400" spc="-1" strike="noStrike">
                <a:solidFill>
                  <a:srgbClr val="ffffcc"/>
                </a:solidFill>
                <a:latin typeface="Arial"/>
              </a:rPr>
              <a:t>f</a:t>
            </a:r>
            <a:r>
              <a:rPr b="0" lang="de-DE" sz="1400" spc="-1" strike="noStrike">
                <a:solidFill>
                  <a:srgbClr val="ffffcc"/>
                </a:solidFill>
                <a:latin typeface="Arial"/>
              </a:rPr>
              <a:t>;</a:t>
            </a:r>
            <a:r>
              <a:rPr b="0" i="1" lang="de-DE" sz="1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ffffcc"/>
                </a:solidFill>
                <a:latin typeface="Arial"/>
              </a:rPr>
              <a:t>Lehre </a:t>
            </a:r>
            <a:r>
              <a:rPr b="0" i="1" lang="de-DE" sz="1400" spc="-1" strike="noStrike">
                <a:solidFill>
                  <a:srgbClr val="ffffcc"/>
                </a:solidFill>
                <a:latin typeface="Arial"/>
              </a:rPr>
              <a:t>f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cc"/>
                </a:solidFill>
                <a:latin typeface="Times New Roman"/>
              </a:rPr>
              <a:t>(c) Langenscheidt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668680" y="304920"/>
            <a:ext cx="43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cc"/>
                </a:solidFill>
                <a:latin typeface="Times New Roman"/>
              </a:rPr>
              <a:t>Traditional Apprenticeshi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1549440" cy="17524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133720" y="2209680"/>
            <a:ext cx="1752480" cy="1438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808800" y="43434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1. „modeling“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9520" y="48769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2. „coaching“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9880" y="541008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3. „fading“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55280" y="129528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r Experte/Meis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360" y="129528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r Schül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743200" y="1270080"/>
            <a:ext cx="34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Aspekte der Lerntheori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08120" y="2057400"/>
            <a:ext cx="40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1. Authentizität und Situierthei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2440" y="2590920"/>
            <a:ext cx="27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2. Multiple Kontex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1720" y="3124080"/>
            <a:ext cx="31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. Multiple Perspektiv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13160" y="3657600"/>
            <a:ext cx="25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 Sozialer Kontex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69400" y="228600"/>
            <a:ext cx="406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ognitive Apprenticeshi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30T11:56:46Z</dcterms:created>
  <dc:creator>Meik Romberg</dc:creator>
  <dc:description/>
  <dc:language>en-US</dc:language>
  <cp:lastModifiedBy>Universität zu Köln</cp:lastModifiedBy>
  <dcterms:modified xsi:type="dcterms:W3CDTF">2004-02-18T13:36:46Z</dcterms:modified>
  <cp:revision>11</cp:revision>
  <dc:subject/>
  <dc:title>Kein Folientitel</dc:title>
</cp:coreProperties>
</file>